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F97-D2DF-4A78-BF2D-82AE10E0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59B-73CB-4923-8884-59DEE326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323-C111-4F99-AB1C-DAE4FD66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85E-417E-48EA-9B8C-410AAF55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D6D-5607-4FA8-8707-44C3ACD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863-A303-4F5A-9314-8ABA2621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F67-755D-4ACF-AB09-80C8D7B8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0A1-4FAF-42C8-A80A-6E7387FE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5A4-1695-46F6-AE6A-CED0D6E3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302-FA80-4FEF-AE2D-1CB5580F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E6C-5860-426E-BAF2-9CAF496A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0C6-AF6A-4EB0-99D6-A628870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E808-F160-4AC9-9F44-82969098B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ess my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Antonio M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Antonio Blue Jay 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fifth to la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  <p:pic>
        <p:nvPicPr>
          <p:cNvPr id="46" name="~PP2953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fourth to la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third to last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second to la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first to last.JPG"/>
          <p:cNvPicPr/>
          <p:nvPr/>
        </p:nvPicPr>
        <p:blipFill>
          <a:blip r:embed="rId1"/>
          <a:stretch/>
        </p:blipFill>
        <p:spPr>
          <a:xfrm>
            <a:off x="1604880" y="1709640"/>
            <a:ext cx="5934240" cy="4305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irst to las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Blue Jay im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5:13:09Z</dcterms:created>
  <dc:creator>APS USER</dc:creator>
  <dc:description/>
  <dc:language>en-US</dc:language>
  <cp:lastModifiedBy>APSUser</cp:lastModifiedBy>
  <dcterms:modified xsi:type="dcterms:W3CDTF">2012-04-04T22:48:02Z</dcterms:modified>
  <cp:revision>4</cp:revision>
  <dc:subject/>
  <dc:title>Guess my animal</dc:title>
</cp:coreProperties>
</file>